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LASER.WAV" ContentType="audio/x-wav"/>
  <Override PartName="/ppt/media/CAMERA.WAV" ContentType="audio/x-wav"/>
  <Override PartName="/ppt/media/TYPE.WAV" ContentType="audio/x-wav"/>
  <Override PartName="/ppt/media/image2.wmf" ContentType="image/x-wmf"/>
  <Override PartName="/ppt/media/image3.wmf" ContentType="image/x-wmf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292F-CE4A-4237-AAC5-E4BADFAAC6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Factorization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every composite number expressed as a product of a prim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Factoriz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Emerlina C. Binu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omposite number expressed as a product of a prim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ncept Summary: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whole number that has exactly two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s, 1 and the number itself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1, 13, 25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mposit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number greater than 1 with more 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than two factors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6, 10, 18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Neither prime nor composite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 has only one factor. O has an infinite number or factors.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0, 1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Summ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ole number that has exactly tw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, 1 and the number itself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 13, 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greater than 1 with mor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wo fac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 10, 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ither prime nor compo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has only one factor. O has an infinite number or factor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.Identify Prime and composite, </a:t>
            </a:r>
            <a:br>
              <a:rPr sz="1200"/>
            </a:b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or neither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8:  The factors of 28 are 1 and 28, 2 and 14, and 4 and 7.  Since 28 has more than two factors, it is a composit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1:   The factors of 11 are 1 and 11.  Since there are exactly two factors, 1 and the number itself, 11 is a prime number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Identify Prime and composite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n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:  The factors of 28 are 1 and 28, 2 and 14, and 4 and 7.  Since 28 has more than two factors, it is a composit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:   The factors of 11 are 1 and 11.  Since there are exactly two factors, 1 and the number itself, 11 is a prim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when two or more numbers are multiplied, each number is called a factor of the product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Numbe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whole number that has exactly two unique factors, 1 and the number itself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Composite number: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a number greater than 1 with more than two factors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numbers are multiplied, each number is called a factor of the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Numbe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ole number that has exactly two unique factors, 1 and the number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e number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greater than 1 with more than two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Numbers and Prime Factorization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Every Composite number can be written as a product of prime number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6  = 2 x 3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8  = 2 x 2 x 2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12= 2 x 2 x 3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Numbers and Prime Fact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omposite number can be written as a product of prim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 = 2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 = 2 x 2 x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= 2 x 2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Prime Factor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Factors that are prime numbers are called prime factors.  You can use Factor Tree to find prime factors. This one shows the prime factors of 50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50=2 x 5 x 5 is the prime factorization of 50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e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are prime numbers are called prime factors.  You can use Factor Tree to find prime factors. This one shows the prime factors of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=2 x 5 x 5 is the prime factorization of 5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Hope you enjoy the Lesson!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Times New Roman"/>
              </a:rPr>
              <a:t>Have a nice day to all of you!!!!!!!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you enjoy the Less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ice day to all of you!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0A8-1341-4A43-88B9-F930E806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848-2692-4A96-87E1-B2A1A6F2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9079-A6F6-485C-AE91-FCCA488A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4F1D-C359-4E12-8EAF-A27C029D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A8DB-657F-411E-8FBF-38757DD1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38BC-4A62-42AF-9C2E-BAC99CCA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8E22-7D5D-4573-9D29-761BCAE9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256C-104C-4E59-8A8B-CAA5F04E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74D1-1183-46C0-BBE8-005011F2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E156-6A72-4587-9B54-2F815B1A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419C-83A8-46CD-B6F7-65AFE402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A29-100B-4989-83DB-D34FA5CE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E4AC-FBA3-44AF-82D4-F0A9D7C8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1DF8-C4E5-4A3E-9B8E-E99CDE8C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123A-8F40-483B-92D6-0F6AC7F2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7318-17CA-45CD-9966-3BEE8869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1085-5599-4D69-8E64-9307F938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98F5-0F0F-4BB7-8D00-89792B9D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8CD-F1DA-4CF9-9389-A340836B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FB3-D095-46BD-AC78-4C49EE52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1D87-5F75-4E60-A8FE-86DA6AB1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BC76-6DE0-472F-80B1-5749F7E1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4133-AC09-4267-B9F2-47E9FB60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C468-C8A7-4AF2-B9D9-DB8BFA8E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72EA-A65D-42BA-9386-90DFDFE09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7131-27E3-48E6-8CAA-F2C7740C4E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Prime Factorization</a:t>
            </a:r>
            <a:br>
              <a:rPr sz="4000"/>
            </a:b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by</a:t>
            </a:r>
            <a:br>
              <a:rPr sz="4000"/>
            </a:br>
            <a:r>
              <a:rPr b="1" i="1" lang="en-US" sz="4000" spc="-1" strike="noStrike">
                <a:solidFill>
                  <a:srgbClr val="ccffff"/>
                </a:solidFill>
                <a:latin typeface="Tahoma"/>
              </a:rPr>
              <a:t>Dr. Emerlina C. Binuy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5280" y="2590560"/>
            <a:ext cx="69343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ahoma"/>
              </a:rPr>
              <a:t>every composite number expressed as a product of a prime number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Concept Summary</a:t>
            </a:r>
            <a:r>
              <a:rPr b="1" lang="en-US" sz="40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Prim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whole number that has exactly two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factors, 1 and the number itself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34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11, 13, 25</a:t>
            </a:r>
            <a:r>
              <a:rPr b="1" lang="en-US" sz="1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Composit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A number greater than 1 with more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than two factors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6, 10, 18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Neither prime nor composite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1 has only one factor. O has an infinite number or factors.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0, 1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75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75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75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75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75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75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.</a:t>
            </a:r>
            <a:r>
              <a:rPr b="1" i="1" lang="en-US" sz="3600" spc="-1" strike="noStrike">
                <a:solidFill>
                  <a:srgbClr val="ccffff"/>
                </a:solidFill>
                <a:latin typeface="Tahoma"/>
              </a:rPr>
              <a:t>Identify Prime and composite, </a:t>
            </a:r>
            <a:br>
              <a:rPr sz="3600"/>
            </a:br>
            <a:r>
              <a:rPr b="1" i="1" lang="en-US" sz="3600" spc="-1" strike="noStrike">
                <a:solidFill>
                  <a:srgbClr val="ccffff"/>
                </a:solidFill>
                <a:latin typeface="Tahoma"/>
              </a:rPr>
              <a:t>or neither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239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28:  The factors of 28 are 1 and 28, 2 and 14, and 4 and 7.  Since 28 has more than two factors, it is a composite number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11:   The factors of 11 are 1 and 11.  Since there are exactly two factors, 1 and the number itself, 11 is a prime number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8" name="Object 7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1905120" cy="39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7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75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Remem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Facto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when two or more numbers are multiplied, each number is called a factor of the product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Prime Numbe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a whole number that has exactly two unique factors, 1 and the number itself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Tahoma"/>
              </a:rPr>
              <a:t>Composite number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a number greater than 1 with more than two factor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1" name="Object 5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990360" cy="17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Prime Numbers and Prime Factoriz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Every Composite number can be written as a product of prime numb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6  = 2 x 3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8  = 2 x 2 x 2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12= 2 x 2 x 3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7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75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75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75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ffff"/>
                </a:solidFill>
                <a:latin typeface="Tahoma"/>
              </a:rPr>
              <a:t>Prime Facto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Factors that are prime numbers are called prime factors.  You can use Factor Tree to find prime factors. This one shows the prime factors of 5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5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6" name="Line 4"/>
          <p:cNvSpPr/>
          <p:nvPr/>
        </p:nvSpPr>
        <p:spPr>
          <a:xfrm flipH="1">
            <a:off x="2590920" y="4419720"/>
            <a:ext cx="304560" cy="45720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3124080" y="4419720"/>
            <a:ext cx="228600" cy="45720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362320" y="48006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049560" y="4800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Line 8"/>
          <p:cNvSpPr/>
          <p:nvPr/>
        </p:nvSpPr>
        <p:spPr>
          <a:xfrm flipH="1">
            <a:off x="2971440" y="5257800"/>
            <a:ext cx="228600" cy="3808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3429000" y="5257800"/>
            <a:ext cx="228600" cy="38088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743200" y="55627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5830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4572000" y="51055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50=2 x 5 x 5 is the prime factorization of 50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pe you enjoy the Lesson!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ahoma"/>
              </a:rPr>
              <a:t>Have a nice day to all of you!!!!!!!</a:t>
            </a:r>
            <a:endParaRPr b="0" lang="en-US" sz="4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04:12:50Z</dcterms:created>
  <dc:creator>emerlina binuya</dc:creator>
  <dc:description/>
  <dc:language>en-US</dc:language>
  <cp:lastModifiedBy>RomaK</cp:lastModifiedBy>
  <dcterms:modified xsi:type="dcterms:W3CDTF">2015-09-04T09:17:57Z</dcterms:modified>
  <cp:revision>30</cp:revision>
  <dc:subject/>
  <dc:title>Prime Factorization</dc:title>
</cp:coreProperties>
</file>